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D05-A98E-4545-A16E-B71DC985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921-CC3D-43C1-904D-8A66F47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F86-1548-4515-A904-C92F2F8E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ED7-F434-484D-B5C0-D697AED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CA4-067E-440C-9FE9-A396ED7A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84A9-842F-442F-90F5-0BC5652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5CE-15E0-40EB-B5FC-7334F07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3D4C-948B-4949-8A5A-2FA62C11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2D3-C25B-40BE-A01E-622A3B2F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527F-6450-4572-96B2-4FA92CC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572-BE40-4F10-A748-28A419C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F29-87E2-4A31-8838-83ACDDF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C7E2-7F6A-47B3-9CCE-C7D77F6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43F0-324B-4FF9-B74C-5A15FB82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FDB7-2D58-4634-9F75-332C918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C757-FE78-4FB1-8311-457D150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7E62-EDCE-4668-BD3C-571FFDD9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2C0-0CB9-4FFB-90CD-A228D9D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A1C-F6B6-4A66-B50C-6930C842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8D7-F4C5-44A0-B805-F94247D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6E1-4894-4F8D-8207-3C14C24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DE1-B6E0-483B-B812-E8818F5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97B-2816-440A-92AA-243A899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D82-3315-4E1B-B476-47CFE98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572-1C4C-437F-9D6A-CEE9E3C40F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0D1-5A4E-4C9B-9D97-66E74F4718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udah Alon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ook of Jona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arter 7, Lesson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ages 88-9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ign of Jon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thew 12:40-41 (KJV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rist said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s Jonah was three days and three nights in the whale's belly; so shall the Son of man be three days and three nights in the heart of the earth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en of Nineveh shall rise in judgment with this generation, and shall condemn it: because they repented at the preaching of Jonah; and, behold, a greater than Jonah is he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ign of Jon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ke 11:29-30 (KJV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when the people were gathered thick together, he began to say, This is an evil generation: they seek a sign; and there shall no sign be given it, but the sign of Jonah the prophe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s Jonah was a sign unto the Ninevites, so shall also the Son of man be to this gene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member Th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is immutable (unchangeable)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ill act today on the same principles he acted on in the pa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d evil Nineveh receive a sig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id they come to know God’s wo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we expect a sign from Chris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are we to find out God’s word tod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sons Learned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not hide from G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hears prayers no matter where we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is always just in the affairs of 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ings don’t go our way, don’t get ang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life’s comforts are taken away, don’t get angry – there are more important things in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the Prophe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was from Gathhepher, a village in the area of Galilee 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14:2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prophesied during the reign of Jeroboam II about 786 – 746 B.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mporary with Amos, Hos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ce powerful Assyria is now in period of decline and very wick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95288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2b00"/>
                </a:solidFill>
                <a:latin typeface="Arial"/>
              </a:rPr>
              <a:t>Ninev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0400" y="2895120"/>
            <a:ext cx="19810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6668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743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743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2895480"/>
            <a:ext cx="243828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From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:1-1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tells Jonah 1:2 “Arise, go to Nineveh, that great city, and preach against it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took a ship to Tarshish to run away from the presence of Go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ip is beset by a fierce storm sent from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lors cast lots and find out cause of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From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:15-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st into sea - swallowed by giant f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 calm and sailors sacrific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remains in the fish 3 days and 3 nigh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h’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ayer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lls out to God from the belly of the f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s how he was cast into the deep and driven from God’s s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t God brought up his life from the p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ys with the voice of thanksgiving he will sacrific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ludes: “Salvation belongs to the Lor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To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3:1-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commands Jonah a second  time, Go to Nineveh and pr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time Jonah arose and went to Nineveh, an exceedingly great city, three days journey in bread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lls out “Yet forty days, and Nineveh will be overthrow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ineveh Repents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3:5-1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 believed God, fasted and put on sackclo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g put on sackcloth and sat in ashes and issued a dec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es their repentance and relents from the disaster he had planned for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neveh will now last for about another 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Ahead of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very angry with God’s deci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questions Jonah about his att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of the plant and the w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ready to d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reasoning for saving of 120,000 people of Nineve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1:43:59Z</dcterms:created>
  <dc:creator>John Vines</dc:creator>
  <dc:description/>
  <dc:language>en-US</dc:language>
  <cp:lastModifiedBy>Frank D Vines</cp:lastModifiedBy>
  <dcterms:modified xsi:type="dcterms:W3CDTF">2006-01-04T21:34:12Z</dcterms:modified>
  <cp:revision>30</cp:revision>
  <dc:subject/>
  <dc:title>Jonah the Prophet (the Book of Jonah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